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85CB-628B-4442-AB8F-0E3E3BA8C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1E56-FED9-4AE1-BA1D-D8A194A432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E3C9-84EC-488A-9688-25FC7BA7EB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8393-8BAA-4705-A105-B4986AC099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88F5-1C89-42EF-A792-E530B6644B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36A6-3209-40D6-BE0B-B7C7A17344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F096-08C5-41B2-AD97-4315C91981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5556-E869-42BA-9390-4C86850C64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172-678C-469B-9CA7-98C447A64D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7FFC-D028-4A81-87FA-13C4A2E111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B171-B412-4C81-BC55-6D24F104CD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3238-E9B0-4C60-AF1A-1CF93C9B9C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BC22-475B-4E3A-A4B7-1BE949DC28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089A-22AF-4C59-8BFC-F42AFF9E62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5AB9-E3FD-4B1A-99B3-676A7EE0C8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D242-0AFB-4604-A8A3-AD35041966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EA3E-EDD8-4C2F-97BE-74A0ECC5B0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FAE-411C-4DAF-ACCF-1905B221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926-2646-4D1F-9CC9-8D0F3D49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04A08-8058-4900-88C2-3CA3FB49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744C8-3FAD-4D59-9553-C3936718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65F84-1F56-4058-BA66-62C6F307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79B68-3B15-456B-B0BA-A745B875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08569-2A94-4475-9E0F-9775A4D9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A8065-672D-4271-B5DE-EADDEFF7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3062D-B588-443F-AA4C-7C6D7987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5689E-B8CD-4AC9-B7C8-DB1FC0BD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39234-8797-4797-9F26-B104A0CE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70A99-904A-488D-91F9-C0A76519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10B-FAB2-4AF8-8E43-A6D50045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A3F4D-9F75-401E-998A-04678D66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0B53C-8F77-4E54-8A05-705EA6B6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4C6F6-D8CA-4465-84D4-067A4D4B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8B7A2-3E1B-471D-9629-63D2D14C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37FF8-B8DF-40E1-A1FF-A5764E66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0BB73-F672-44CD-B1B6-7BE252D4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82244-9FC9-49F3-99D6-71DBE54F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529DA-C035-477A-90F1-7C88E3C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85ED6-D747-4B8C-B609-A8B8F142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1118E-65B9-4B95-9813-77F391B1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9C4-1D87-4588-818F-21375F2A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6E33D-13C7-43C1-8363-E8E22F08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381DB-DC29-4F4A-AC73-353EA4B5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7633C-FA2E-4829-89D3-FA9DEF03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E5018-7E36-4063-AC0F-0E905A2B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1D809-0461-4DA0-86DE-D6EB2548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0F968-A0C9-49AC-8C1C-84ED321E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CEC5C-D76F-460A-9639-75784E00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6569A-2D36-4348-936B-9ED77085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5B2ED-16EF-4CE9-A099-26E315C7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C20BE-F641-49B9-BFE4-74B74420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DBF2-C76C-4F5A-AA88-81423C10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BE19E-E263-44A3-82E6-8C8D9254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21988-62A7-468F-866A-EB6FFCF8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2FF33-4C9C-40E1-8759-87A52BF5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3C049-286C-4135-B986-0B2F5117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865CE-8EF8-4E9F-A857-4FF805C7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07F0A-0632-431C-AC3B-45A94B47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517BC-790D-4C75-B01F-1320DE02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815BA-7450-4EF4-88A6-54E16DF5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FD3CA-B5DC-4216-B5F7-AEFD32A5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2C546-56AB-4073-86C5-393C8821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0D6C-F61E-44E6-97C5-87184940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96F5B-9CC1-47AC-B28C-C3D1BD93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4A6BB-3693-4918-8F6E-93CBD078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A840E-C5B1-43C5-8820-0D1D1A2F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F8E02-7DC9-473D-B9F1-905BF1E6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2773F-A999-4CD8-8E76-CB784E51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45543-8434-4A8E-93E9-E89795F0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714E2-A87C-46CB-BEDB-AB37A2A7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CE22B-8D42-4068-85F4-CB242CE7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CDFB4-F4F0-48EF-AA07-8DC3BD39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E2016-4399-45B3-82A2-72C27196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7A98-B660-418D-81CE-DE9BFE55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A1E40-1EFF-452A-B6C8-1FB25F64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FBA22-08B3-42FC-9922-316A9265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44462-F176-48E5-89EE-829E12A1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4BD0A-2B4D-4948-ADBA-84991BCC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23530-5F61-4D5B-93EB-86FCF5E9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EFADA-445D-4E8D-9586-C8D0BEC2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E207B-AA7B-4672-990C-89395A3E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B348-4CAE-4C5B-A249-AAEA87DC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3A33-1D5E-469D-BBBC-2E3697CF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635B-8C2A-414F-9AB3-6E2E72E5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D161-02E5-4E09-9FA6-E457F4C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59D-B6CA-4664-AE96-5CCBC4F4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C433-71F3-42E6-A1F8-348BFDCD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E2B6-B39D-4B91-8898-B756DE3E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91D0-8D7A-4030-AD8B-D4A11A1C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694F-0609-428A-8A8E-CA61BEC0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D199-4576-41A4-82D9-FF0D0B9A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22015-0D95-4D10-AD26-79511037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AE98-837D-4583-9DA7-834031F4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DB7FD-2FA8-44D4-B0EB-0E38BA7F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CE5EC-0124-4B79-8581-F5F96715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0EF1-047E-4E68-B33D-96FC2262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F03-C7B9-471D-83B1-4DFD7B79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7367-150C-48F3-B847-8A95E9E0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8CB8B-1402-4EBA-BA62-7FBD2AF0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B4E9-9972-463A-A939-50BAFA8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2AC4-68B4-4C8E-B10D-3C5F6369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5A25-1AE0-493F-921F-164BD35B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2162-0FD8-4574-A0AF-617E009C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0C6C-09AB-449D-B365-2875FF6F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2E564-24A3-4019-8F6F-89AB6A91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5132-8EAC-47C8-962C-E63419EA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9475-8741-4E48-9099-960B4575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3D0-3A30-4008-BAD7-8C95480F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9736-B2E7-49CB-B345-4FC836FC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60FD7-13F9-4D38-B833-9319E613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3C42B-036F-4BE7-B7F3-952BC7EB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642C-BE5D-423A-8E48-84E77959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ABB63-BAD5-477C-9D31-5AF77DDA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8047D-3913-4F6A-AC2E-549C8124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6623-D57B-498F-ACF5-0EE5FF51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450B-31E0-4DAB-9D11-5CE72CB2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DD39B-E00B-46F1-9B3A-A159C0AD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1F679-F777-4BD2-812F-2C33B9D3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EA3-225C-4846-A19A-7368442B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DB95E-6C80-4B04-9A2C-E9E6EF26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F5D3D-D39D-4ABC-8C60-6CE441B7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8CC9F-D8B3-4802-9664-14CC55EB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30AC1-6A99-48EF-AB3B-C8542C29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01F23-8130-4535-AB8B-BCF027BB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E855D-84EA-447D-A6B6-16CA15E2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21C62-3C01-437B-85A5-6683BD6D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26255-D4D9-428B-AFCF-B3065DB5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9A62D-299A-4097-8FAE-5EF782E9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5A483-996D-4206-B63B-E19053D3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7B1-A368-4C64-95A8-5150EA94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7B75E-6C31-462F-8D70-1B9ACFFA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1FE29-BDE9-44C8-97A7-71D70F94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074A8-FCE0-44C4-AA36-2AED96C5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2CCDD-FF2D-4443-82E7-8A672A38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0B121-F81E-4BBB-AB58-FA53E4D8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EC31-730F-4759-8FC8-2266D6B1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D66F1-CE07-40F9-ACF9-D5155488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76DDE-12BE-4B07-98CF-D348D8F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F06DE-C4B4-41AF-804C-15EE6A11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E85A3-14A7-4F15-B858-A61F8E26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D6E-20B7-4FE0-B506-C48F658F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0C315-125D-4A17-A680-49F43710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43DB0-7412-45E8-83F1-F4F34BBA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650DC-8B94-470E-BA2C-85D8546C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858DC-F0BC-4BB7-A67F-010556BE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2C561-3CC7-49FE-BC9C-67F87BAA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B6BAB-3F4D-4557-AABE-2ACDA2D6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8AD13-7052-4ED3-A447-12B3ACFC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02AB5-8B8E-4B08-BDFA-B0EF6F9A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1C644-D035-4206-9F95-C9710D41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03F8A-7F49-4B6F-9900-8C227B89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A33-8801-4028-919E-54F6BCDC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43991-22B3-45C8-8846-F42DEFB5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CCFCE-C5E4-44B1-A0FF-E8F56077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D567E-5415-4040-82ED-5ED247FF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7EF82-0663-4CA3-A7DD-DA80B4F4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8E731-D1DA-4293-BA32-FD4A28C9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F7331-4F1C-41A2-B629-2BDEF12E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532BA-DE64-4A6F-95B0-3270DD82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B16BD-D569-4120-AD37-657E8E82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15277-B4D2-4449-A9A1-B27A2E3B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2D042-AE67-4EED-8395-41B2F10C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83C-C7E5-4755-9E83-86F4E275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FF8F6-D427-4673-930A-C6817D1C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381C4-0AC1-497F-ADA3-9D0FB58D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3A043-E5D9-4922-91E5-97CCA0D7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A19E6-459A-43FB-A989-1821C3CC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52851-A93D-40F1-A50D-6B7877CA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C790E-BCAF-4768-B15E-88377640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D8F1C-5B46-4953-AF70-9A877D30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ABB0E-E3D3-4074-9E00-B9C13FCF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04F25-B65E-4A91-B771-B837B350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CE453-5C31-46A8-8F01-7C69C145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A686-15EF-466C-83F3-50E55302F997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38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35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8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9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8BC9-E700-432C-BB02-40E10C002A2E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91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5001-FA2B-4278-A01B-16A8579F3B0F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747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4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7DE3-A86B-4FB4-AE4D-A26EA897A1BE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D198-54DD-4114-83E3-902CF1759B43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8"/>
          <p:cNvGrpSpPr/>
          <p:nvPr/>
        </p:nvGrpSpPr>
        <p:grpSpPr>
          <a:xfrm>
            <a:off x="685800" y="0"/>
            <a:ext cx="8001000" cy="7950240"/>
            <a:chOff x="685800" y="0"/>
            <a:chExt cx="8001000" cy="7950240"/>
          </a:xfrm>
        </p:grpSpPr>
        <p:sp>
          <p:nvSpPr>
            <p:cNvPr id="74" name="Pie 39"/>
            <p:cNvSpPr/>
            <p:nvPr/>
          </p:nvSpPr>
          <p:spPr>
            <a:xfrm flipH="1" flipV="1">
              <a:off x="1256760" y="5778720"/>
              <a:ext cx="2171520" cy="2171520"/>
            </a:xfrm>
            <a:prstGeom prst="pi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0"/>
              <a:ext cx="8001000" cy="6856560"/>
              <a:chOff x="685800" y="0"/>
              <a:chExt cx="8001000" cy="6856560"/>
            </a:xfrm>
          </p:grpSpPr>
          <p:sp>
            <p:nvSpPr>
              <p:cNvPr id="76" name="Freeform 41"/>
              <p:cNvSpPr/>
              <p:nvPr/>
            </p:nvSpPr>
            <p:spPr>
              <a:xfrm>
                <a:off x="685800" y="5880240"/>
                <a:ext cx="1143000" cy="976320"/>
              </a:xfrm>
              <a:prstGeom prst="pi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42"/>
              <p:cNvSpPr/>
              <p:nvPr/>
            </p:nvSpPr>
            <p:spPr>
              <a:xfrm>
                <a:off x="2590560" y="518184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43"/>
              <p:cNvSpPr/>
              <p:nvPr/>
            </p:nvSpPr>
            <p:spPr>
              <a:xfrm>
                <a:off x="838080" y="579132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44"/>
              <p:cNvSpPr/>
              <p:nvPr/>
            </p:nvSpPr>
            <p:spPr>
              <a:xfrm>
                <a:off x="2361960" y="59439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45"/>
              <p:cNvSpPr/>
              <p:nvPr/>
            </p:nvSpPr>
            <p:spPr>
              <a:xfrm>
                <a:off x="1676160" y="562644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46"/>
              <p:cNvSpPr/>
              <p:nvPr/>
            </p:nvSpPr>
            <p:spPr>
              <a:xfrm>
                <a:off x="1981080" y="533412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47"/>
              <p:cNvSpPr/>
              <p:nvPr/>
            </p:nvSpPr>
            <p:spPr>
              <a:xfrm>
                <a:off x="1942920" y="55627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48"/>
              <p:cNvSpPr/>
              <p:nvPr/>
            </p:nvSpPr>
            <p:spPr>
              <a:xfrm>
                <a:off x="2361960" y="50295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49"/>
              <p:cNvSpPr/>
              <p:nvPr/>
            </p:nvSpPr>
            <p:spPr>
              <a:xfrm>
                <a:off x="3009960" y="441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50"/>
              <p:cNvSpPr/>
              <p:nvPr/>
            </p:nvSpPr>
            <p:spPr>
              <a:xfrm>
                <a:off x="2971800" y="46483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51"/>
              <p:cNvSpPr/>
              <p:nvPr/>
            </p:nvSpPr>
            <p:spPr>
              <a:xfrm>
                <a:off x="3314520" y="472464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52"/>
              <p:cNvSpPr/>
              <p:nvPr/>
            </p:nvSpPr>
            <p:spPr>
              <a:xfrm>
                <a:off x="3619440" y="50295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53"/>
              <p:cNvSpPr/>
              <p:nvPr/>
            </p:nvSpPr>
            <p:spPr>
              <a:xfrm>
                <a:off x="1384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54"/>
              <p:cNvSpPr/>
              <p:nvPr/>
            </p:nvSpPr>
            <p:spPr>
              <a:xfrm>
                <a:off x="3505320" y="52581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55"/>
              <p:cNvSpPr/>
              <p:nvPr/>
            </p:nvSpPr>
            <p:spPr>
              <a:xfrm>
                <a:off x="1295280" y="566460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56"/>
              <p:cNvSpPr/>
              <p:nvPr/>
            </p:nvSpPr>
            <p:spPr>
              <a:xfrm>
                <a:off x="1447560" y="551196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57"/>
              <p:cNvSpPr/>
              <p:nvPr/>
            </p:nvSpPr>
            <p:spPr>
              <a:xfrm>
                <a:off x="1600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59"/>
              <p:cNvSpPr/>
              <p:nvPr/>
            </p:nvSpPr>
            <p:spPr>
              <a:xfrm>
                <a:off x="3352680" y="59439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60"/>
              <p:cNvSpPr/>
              <p:nvPr/>
            </p:nvSpPr>
            <p:spPr>
              <a:xfrm flipV="1">
                <a:off x="5486400" y="0"/>
                <a:ext cx="1143000" cy="976320"/>
              </a:xfrm>
              <a:prstGeom prst="pi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74"/>
              <p:cNvSpPr/>
              <p:nvPr/>
            </p:nvSpPr>
            <p:spPr>
              <a:xfrm flipV="1">
                <a:off x="7391520" y="760320"/>
                <a:ext cx="914400" cy="9144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75"/>
              <p:cNvSpPr/>
              <p:nvPr/>
            </p:nvSpPr>
            <p:spPr>
              <a:xfrm flipV="1">
                <a:off x="5638680" y="60804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77"/>
              <p:cNvSpPr/>
              <p:nvPr/>
            </p:nvSpPr>
            <p:spPr>
              <a:xfrm flipV="1">
                <a:off x="7162920" y="1501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78"/>
              <p:cNvSpPr/>
              <p:nvPr/>
            </p:nvSpPr>
            <p:spPr>
              <a:xfrm flipV="1">
                <a:off x="6477120" y="7729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92"/>
              <p:cNvSpPr/>
              <p:nvPr/>
            </p:nvSpPr>
            <p:spPr>
              <a:xfrm flipV="1">
                <a:off x="6782040" y="116604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93"/>
              <p:cNvSpPr/>
              <p:nvPr/>
            </p:nvSpPr>
            <p:spPr>
              <a:xfrm flipV="1">
                <a:off x="6743880" y="86112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98"/>
              <p:cNvSpPr/>
              <p:nvPr/>
            </p:nvSpPr>
            <p:spPr>
              <a:xfrm flipV="1">
                <a:off x="7162920" y="106524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99"/>
              <p:cNvSpPr/>
              <p:nvPr/>
            </p:nvSpPr>
            <p:spPr>
              <a:xfrm flipV="1">
                <a:off x="7810560" y="208044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100"/>
              <p:cNvSpPr/>
              <p:nvPr/>
            </p:nvSpPr>
            <p:spPr>
              <a:xfrm flipV="1">
                <a:off x="7772400" y="177552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101"/>
              <p:cNvSpPr/>
              <p:nvPr/>
            </p:nvSpPr>
            <p:spPr>
              <a:xfrm flipV="1">
                <a:off x="8115480" y="192888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102"/>
              <p:cNvSpPr/>
              <p:nvPr/>
            </p:nvSpPr>
            <p:spPr>
              <a:xfrm flipV="1">
                <a:off x="8420400" y="16239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103"/>
              <p:cNvSpPr/>
              <p:nvPr/>
            </p:nvSpPr>
            <p:spPr>
              <a:xfrm flipV="1">
                <a:off x="6184800" y="124308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104"/>
              <p:cNvSpPr/>
              <p:nvPr/>
            </p:nvSpPr>
            <p:spPr>
              <a:xfrm flipV="1">
                <a:off x="8305920" y="13953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105"/>
              <p:cNvSpPr/>
              <p:nvPr/>
            </p:nvSpPr>
            <p:spPr>
              <a:xfrm flipV="1">
                <a:off x="6096240" y="106524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106"/>
              <p:cNvSpPr/>
              <p:nvPr/>
            </p:nvSpPr>
            <p:spPr>
              <a:xfrm flipV="1">
                <a:off x="6248520" y="1217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107"/>
              <p:cNvSpPr/>
              <p:nvPr/>
            </p:nvSpPr>
            <p:spPr>
              <a:xfrm flipV="1">
                <a:off x="6400800" y="124308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108"/>
              <p:cNvSpPr/>
              <p:nvPr/>
            </p:nvSpPr>
            <p:spPr>
              <a:xfrm flipV="1">
                <a:off x="8153640" y="37872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Oval 109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10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11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DA63-4CA2-4904-8888-463B52B88CA1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F89F-5D47-4C96-99FF-4ECE093781E0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38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230" name="Oval 39"/>
            <p:cNvSpPr/>
            <p:nvPr/>
          </p:nvSpPr>
          <p:spPr>
            <a:xfrm>
              <a:off x="624996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40"/>
            <p:cNvSpPr/>
            <p:nvPr/>
          </p:nvSpPr>
          <p:spPr>
            <a:xfrm>
              <a:off x="5513040" y="5048280"/>
              <a:ext cx="1103400" cy="11030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41"/>
            <p:cNvSpPr/>
            <p:nvPr/>
          </p:nvSpPr>
          <p:spPr>
            <a:xfrm>
              <a:off x="624996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42"/>
            <p:cNvSpPr/>
            <p:nvPr/>
          </p:nvSpPr>
          <p:spPr>
            <a:xfrm>
              <a:off x="615780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43"/>
            <p:cNvSpPr/>
            <p:nvPr/>
          </p:nvSpPr>
          <p:spPr>
            <a:xfrm>
              <a:off x="5697360" y="2133720"/>
              <a:ext cx="1839960" cy="1839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44"/>
            <p:cNvSpPr/>
            <p:nvPr/>
          </p:nvSpPr>
          <p:spPr>
            <a:xfrm>
              <a:off x="707724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45"/>
            <p:cNvSpPr/>
            <p:nvPr/>
          </p:nvSpPr>
          <p:spPr>
            <a:xfrm>
              <a:off x="4806720" y="4710240"/>
              <a:ext cx="30780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46"/>
            <p:cNvSpPr/>
            <p:nvPr/>
          </p:nvSpPr>
          <p:spPr>
            <a:xfrm>
              <a:off x="459252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496080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48"/>
            <p:cNvSpPr/>
            <p:nvPr/>
          </p:nvSpPr>
          <p:spPr>
            <a:xfrm>
              <a:off x="5329080" y="47102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609480" y="990360"/>
            <a:ext cx="1179720" cy="1357560"/>
            <a:chOff x="609480" y="990360"/>
            <a:chExt cx="1179720" cy="1357560"/>
          </a:xfrm>
        </p:grpSpPr>
        <p:sp>
          <p:nvSpPr>
            <p:cNvPr id="241" name="Oval 50"/>
            <p:cNvSpPr/>
            <p:nvPr/>
          </p:nvSpPr>
          <p:spPr>
            <a:xfrm>
              <a:off x="898200" y="1457280"/>
              <a:ext cx="891000" cy="8906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 flipV="1">
              <a:off x="647280" y="1294560"/>
              <a:ext cx="355680" cy="355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52"/>
            <p:cNvSpPr/>
            <p:nvPr/>
          </p:nvSpPr>
          <p:spPr>
            <a:xfrm flipV="1">
              <a:off x="609480" y="990000"/>
              <a:ext cx="432000" cy="4316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832D-3B06-491B-B76D-AE4314E8580E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9D5A-8582-4698-922A-0F9F1D8B3338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94D5-9483-4980-B417-104A98B34CF8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B709-6D9E-4239-BD42-0B08900A8F65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2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C4DA-1CB8-4A22-8D70-50CC25F416B1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579" name="Oval 39"/>
            <p:cNvSpPr/>
            <p:nvPr/>
          </p:nvSpPr>
          <p:spPr>
            <a:xfrm>
              <a:off x="4695840" y="5048280"/>
              <a:ext cx="110484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40"/>
            <p:cNvSpPr/>
            <p:nvPr/>
          </p:nvSpPr>
          <p:spPr>
            <a:xfrm>
              <a:off x="7066080" y="457200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41"/>
            <p:cNvSpPr/>
            <p:nvPr/>
          </p:nvSpPr>
          <p:spPr>
            <a:xfrm>
              <a:off x="5340240" y="48960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42"/>
            <p:cNvSpPr/>
            <p:nvPr/>
          </p:nvSpPr>
          <p:spPr>
            <a:xfrm>
              <a:off x="6694560" y="3048120"/>
              <a:ext cx="1839960" cy="18414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43"/>
            <p:cNvSpPr/>
            <p:nvPr/>
          </p:nvSpPr>
          <p:spPr>
            <a:xfrm>
              <a:off x="791712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44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45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46"/>
            <p:cNvSpPr/>
            <p:nvPr/>
          </p:nvSpPr>
          <p:spPr>
            <a:xfrm>
              <a:off x="6551640" y="5121360"/>
              <a:ext cx="30780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47"/>
            <p:cNvSpPr/>
            <p:nvPr/>
          </p:nvSpPr>
          <p:spPr>
            <a:xfrm>
              <a:off x="6781680" y="556272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48"/>
            <p:cNvSpPr/>
            <p:nvPr/>
          </p:nvSpPr>
          <p:spPr>
            <a:xfrm>
              <a:off x="6705720" y="5181840"/>
              <a:ext cx="306360" cy="3078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49"/>
            <p:cNvSpPr/>
            <p:nvPr/>
          </p:nvSpPr>
          <p:spPr>
            <a:xfrm>
              <a:off x="7074000" y="512136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Oval 50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51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52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AC90-14C5-436B-967C-AB522D9E6B79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59760"/>
          </a:xfrm>
          <a:prstGeom prst="rect">
            <a:avLst/>
          </a:prstGeom>
          <a:ln w="0">
            <a:noFill/>
          </a:ln>
        </p:spPr>
      </p:pic>
      <p:pic>
        <p:nvPicPr>
          <p:cNvPr id="883" name="Title 1" descr=""/>
          <p:cNvPicPr/>
          <p:nvPr/>
        </p:nvPicPr>
        <p:blipFill>
          <a:blip r:embed="rId2"/>
          <a:stretch/>
        </p:blipFill>
        <p:spPr>
          <a:xfrm>
            <a:off x="938160" y="433440"/>
            <a:ext cx="6821640" cy="41878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4" descr="Lab_Safety_not a circus.jpg"/>
          <p:cNvPicPr/>
          <p:nvPr/>
        </p:nvPicPr>
        <p:blipFill>
          <a:blip r:embed="rId3"/>
          <a:stretch/>
        </p:blipFill>
        <p:spPr>
          <a:xfrm>
            <a:off x="6781680" y="5295960"/>
            <a:ext cx="2082960" cy="1562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Title 1" descr=""/>
          <p:cNvPicPr/>
          <p:nvPr/>
        </p:nvPicPr>
        <p:blipFill>
          <a:blip r:embed="rId1"/>
          <a:stretch/>
        </p:blipFill>
        <p:spPr>
          <a:xfrm>
            <a:off x="1292400" y="225360"/>
            <a:ext cx="6717960" cy="115272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 txBox="1"/>
          <p:nvPr/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anchor="t">
            <a:normAutofit/>
          </a:bodyPr>
          <a:p>
            <a:pPr marL="2286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6" name="Picture 1" descr=""/>
          <p:cNvPicPr/>
          <p:nvPr/>
        </p:nvPicPr>
        <p:blipFill>
          <a:blip r:embed="rId2"/>
          <a:srcRect l="14063" t="22918" r="14845" b="6250"/>
          <a:stretch/>
        </p:blipFill>
        <p:spPr>
          <a:xfrm>
            <a:off x="1447920" y="114300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908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Title 1" descr=""/>
          <p:cNvPicPr/>
          <p:nvPr/>
        </p:nvPicPr>
        <p:blipFill>
          <a:blip r:embed="rId1"/>
          <a:stretch/>
        </p:blipFill>
        <p:spPr>
          <a:xfrm>
            <a:off x="1401840" y="55440"/>
            <a:ext cx="6840360" cy="1706760"/>
          </a:xfrm>
          <a:prstGeom prst="rect">
            <a:avLst/>
          </a:prstGeom>
          <a:ln w="0">
            <a:noFill/>
          </a:ln>
        </p:spPr>
      </p:pic>
      <p:pic>
        <p:nvPicPr>
          <p:cNvPr id="910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444680"/>
            <a:ext cx="66387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Title 1" descr=""/>
          <p:cNvPicPr/>
          <p:nvPr/>
        </p:nvPicPr>
        <p:blipFill>
          <a:blip r:embed="rId1"/>
          <a:stretch/>
        </p:blipFill>
        <p:spPr>
          <a:xfrm>
            <a:off x="1444680" y="603360"/>
            <a:ext cx="6638760" cy="1158840"/>
          </a:xfrm>
          <a:prstGeom prst="rect">
            <a:avLst/>
          </a:prstGeom>
          <a:ln w="0">
            <a:noFill/>
          </a:ln>
        </p:spPr>
      </p:pic>
      <p:pic>
        <p:nvPicPr>
          <p:cNvPr id="912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Title 1" descr=""/>
          <p:cNvPicPr/>
          <p:nvPr/>
        </p:nvPicPr>
        <p:blipFill>
          <a:blip r:embed="rId1"/>
          <a:stretch/>
        </p:blipFill>
        <p:spPr>
          <a:xfrm>
            <a:off x="1444680" y="603360"/>
            <a:ext cx="6638760" cy="1158840"/>
          </a:xfrm>
          <a:prstGeom prst="rect">
            <a:avLst/>
          </a:prstGeom>
          <a:ln w="0">
            <a:noFill/>
          </a:ln>
        </p:spPr>
      </p:pic>
      <p:pic>
        <p:nvPicPr>
          <p:cNvPr id="914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682560" y="1895400"/>
            <a:ext cx="801072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916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835200" y="1670040"/>
            <a:ext cx="7785000" cy="481644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4" descr=""/>
          <p:cNvPicPr/>
          <p:nvPr/>
        </p:nvPicPr>
        <p:blipFill>
          <a:blip r:embed="rId3"/>
          <a:stretch/>
        </p:blipFill>
        <p:spPr>
          <a:xfrm>
            <a:off x="3505320" y="3352680"/>
            <a:ext cx="259056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919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Title 1" descr=""/>
          <p:cNvPicPr/>
          <p:nvPr/>
        </p:nvPicPr>
        <p:blipFill>
          <a:blip r:embed="rId1"/>
          <a:stretch/>
        </p:blipFill>
        <p:spPr>
          <a:xfrm>
            <a:off x="1243080" y="480960"/>
            <a:ext cx="6840360" cy="1281240"/>
          </a:xfrm>
          <a:prstGeom prst="rect">
            <a:avLst/>
          </a:prstGeom>
          <a:ln w="0">
            <a:noFill/>
          </a:ln>
        </p:spPr>
      </p:pic>
      <p:pic>
        <p:nvPicPr>
          <p:cNvPr id="886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907920" y="1517760"/>
            <a:ext cx="717552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Title 1" descr=""/>
          <p:cNvPicPr/>
          <p:nvPr/>
        </p:nvPicPr>
        <p:blipFill>
          <a:blip r:embed="rId1"/>
          <a:stretch/>
        </p:blipFill>
        <p:spPr>
          <a:xfrm>
            <a:off x="865080" y="480960"/>
            <a:ext cx="7236000" cy="1281240"/>
          </a:xfrm>
          <a:prstGeom prst="rect">
            <a:avLst/>
          </a:prstGeom>
          <a:ln w="0">
            <a:noFill/>
          </a:ln>
        </p:spPr>
      </p:pic>
      <p:pic>
        <p:nvPicPr>
          <p:cNvPr id="888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987480" y="1212840"/>
            <a:ext cx="7858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90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298440" y="1212840"/>
            <a:ext cx="8852040" cy="619920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3" descr="Lab_Safety_sniffing chemicals.jpg"/>
          <p:cNvPicPr/>
          <p:nvPr/>
        </p:nvPicPr>
        <p:blipFill>
          <a:blip r:embed="rId3"/>
          <a:stretch/>
        </p:blipFill>
        <p:spPr>
          <a:xfrm>
            <a:off x="5791320" y="1522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Title 1" descr=""/>
          <p:cNvPicPr/>
          <p:nvPr/>
        </p:nvPicPr>
        <p:blipFill>
          <a:blip r:embed="rId1"/>
          <a:stretch/>
        </p:blipFill>
        <p:spPr>
          <a:xfrm>
            <a:off x="1000080" y="360360"/>
            <a:ext cx="7924680" cy="19620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" descr=""/>
          <p:cNvPicPr/>
          <p:nvPr/>
        </p:nvPicPr>
        <p:blipFill>
          <a:blip r:embed="rId2"/>
          <a:stretch/>
        </p:blipFill>
        <p:spPr>
          <a:xfrm>
            <a:off x="2057400" y="2590920"/>
            <a:ext cx="5334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95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682560" y="1292400"/>
            <a:ext cx="74008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itle 1" descr=""/>
          <p:cNvPicPr/>
          <p:nvPr/>
        </p:nvPicPr>
        <p:blipFill>
          <a:blip r:embed="rId1"/>
          <a:stretch/>
        </p:blipFill>
        <p:spPr>
          <a:xfrm>
            <a:off x="755640" y="165240"/>
            <a:ext cx="7381800" cy="182232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" descr=""/>
          <p:cNvPicPr/>
          <p:nvPr/>
        </p:nvPicPr>
        <p:blipFill>
          <a:blip r:embed="rId3"/>
          <a:stretch/>
        </p:blipFill>
        <p:spPr>
          <a:xfrm>
            <a:off x="4876920" y="2895480"/>
            <a:ext cx="3004920" cy="2248200"/>
          </a:xfrm>
          <a:prstGeom prst="rect">
            <a:avLst/>
          </a:prstGeom>
          <a:ln w="0">
            <a:noFill/>
          </a:ln>
        </p:spPr>
      </p:pic>
      <p:sp>
        <p:nvSpPr>
          <p:cNvPr id="899" name="TextBox 5"/>
          <p:cNvSpPr/>
          <p:nvPr/>
        </p:nvSpPr>
        <p:spPr>
          <a:xfrm>
            <a:off x="1295280" y="54864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hich  yeast would react faster with hydrogen peroxid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Title 1" descr=""/>
          <p:cNvPicPr/>
          <p:nvPr/>
        </p:nvPicPr>
        <p:blipFill>
          <a:blip r:embed="rId1"/>
          <a:stretch/>
        </p:blipFill>
        <p:spPr>
          <a:xfrm>
            <a:off x="1444680" y="480960"/>
            <a:ext cx="6638760" cy="1281240"/>
          </a:xfrm>
          <a:prstGeom prst="rect">
            <a:avLst/>
          </a:prstGeom>
          <a:ln w="0">
            <a:noFill/>
          </a:ln>
        </p:spPr>
      </p:pic>
      <p:pic>
        <p:nvPicPr>
          <p:cNvPr id="901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Title 1" descr=""/>
          <p:cNvPicPr/>
          <p:nvPr/>
        </p:nvPicPr>
        <p:blipFill>
          <a:blip r:embed="rId1"/>
          <a:stretch/>
        </p:blipFill>
        <p:spPr>
          <a:xfrm>
            <a:off x="1444680" y="603360"/>
            <a:ext cx="6638760" cy="1158840"/>
          </a:xfrm>
          <a:prstGeom prst="rect">
            <a:avLst/>
          </a:prstGeom>
          <a:ln w="0">
            <a:noFill/>
          </a:ln>
        </p:spPr>
      </p:pic>
      <p:pic>
        <p:nvPicPr>
          <p:cNvPr id="903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21:42:20Z</dcterms:created>
  <dc:creator>Andrea Pascasio</dc:creator>
  <dc:description/>
  <dc:language>en-US</dc:language>
  <cp:lastModifiedBy>Andrea Pascasio</cp:lastModifiedBy>
  <dcterms:modified xsi:type="dcterms:W3CDTF">2009-06-18T05:47:52Z</dcterms:modified>
  <cp:revision>41</cp:revision>
  <dc:subject/>
  <dc:title>There are a lot of changes that occur in the dynamic of a classroom when inquiry based science is conducted.</dc:title>
</cp:coreProperties>
</file>